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4095-968C-4846-8542-B4E9731E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4B1-5219-4F8E-8EE2-DA05F250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C834D1-FE03-44AD-9773-D31033067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67F1D5-73E5-470F-8A5A-21468BE4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59F9C7-2C8F-4A72-B1CA-109B356E1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F01876-F126-4486-9D25-2FC0644F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7E6030-6900-4B8E-8294-C20AB1F2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3AC499-DD9A-4637-B290-1125B5B3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BE2AE8-8A1C-40F3-91C5-7172E5FF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8578BC-F8CE-43CF-A610-CA321F36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01B7C0-2478-49B2-A7E9-38E53B47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09B313-E785-4749-976D-6A48289A0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938-B9DF-4AB8-804B-BEC3CA0E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A9D2F4-132A-4CC1-AE0E-2E3326A0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983EBD-77F7-463B-AC50-DCB5F002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9448E8-61D2-48D6-AD29-EC9B61E0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72448C-F7A9-4B24-8E49-196FBFEC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3F5C59-CE76-4CC9-B70E-A442E3E0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DCD0EC-579E-4C7C-9133-35BDC592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34B27F-28C7-4DC8-97A9-A1D6CCC8F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BD8EBB-372B-4672-AB8F-27681D25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7F25CB-C319-465B-9155-1EA85E8F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C53DF1-D1CF-4785-A217-3D68A5F8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9C6B-B001-4238-97A7-94EDA389A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156528-FC56-4DA9-986D-4D0A3EA1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9C6092-8621-4B33-AB24-19500CB9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2F002-C2C5-4904-A805-6F3E1218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03B09-2A30-4861-AC6D-38EF14BA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A4EE8-0FF5-4832-AA1B-041764FF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7B65F-2A7B-4248-A7D8-47229CD4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C5DC50-9278-4C6D-B9D7-29B581E6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35C03A-93FE-472C-9CFA-90E79DC2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A12ED4-E688-42B1-BE4E-FEF4DCC03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038E2-0D65-48D5-8354-659A0DD7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41325-B2FF-42EA-982F-DC4C9911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2E845-CD67-4A4A-B154-DA42BEB4B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A28FCC-9918-4499-BE88-EE7A1658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1932D-DDB9-4FC0-B6DF-A44934E8C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7515DE7-0C12-4357-8FD9-ED7F5EA6C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71E32E-CCA3-4DFF-A11C-97F338FC1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EF8059-2D62-4096-97AA-514DD5719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B79BEA-3B88-43C1-994C-FEAB0346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B89AD1-B8ED-4B4D-90A4-89BB18172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00A6DB-3E2F-4A30-8E5D-43AD44218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4A23C0-024E-4515-BCB1-1AD0BAB9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7AA4-5AAE-47AD-9F23-383C241E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B35F62-D2C1-4D36-965E-789F5463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FF3605-E339-407F-A80F-6D849B15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A7EC76-6067-41E4-91A9-A1B04627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A4B540-7E7B-4997-B825-AA18E2D9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35557D-115D-46A1-9703-8FABB6F8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C034-E9FE-492C-80CE-AEE917E5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0001-E2A6-4144-BDEF-6F803B8F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FF2E4-5D39-4F4E-AD27-724273F7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C18B-527F-49B0-897F-1E804BBE7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CF5F7-62BC-4C96-929D-00A4FB74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C428-9D67-4B26-9FEB-30C71317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A802-7000-4BAF-A36A-B12A2651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0DC8-BE4B-4C71-BEC0-95B8FF00A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94FBF-455D-4AAB-A7D6-9A0EB54F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74BA-B848-410F-90A2-EBBA90A1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B5DA-6DE7-4E0B-89CC-0AD8EB61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AA92F-91DC-4BE9-A927-FE482336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2D6E0-43F3-455D-A3D5-D5E5C956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87A57-CE42-4DAA-B42B-139B877D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B4595-318A-408B-8068-B53A93A9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3C3E3-199E-4381-931D-1AD23374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0A1-9CB5-49AC-B4BC-195C2BAE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DF5A6-F541-4BB0-BA1A-81787C11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40673-41B0-4017-9FC7-9C885E60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97203-2F73-4665-89B3-EBD7205E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7D936-50DA-43B2-A160-F4DEBE507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BACB3-B05F-4A69-A749-02F09EB06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181F6-8178-412E-A646-086A81911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2CCF6-21CC-4B9F-AAA0-6554B4674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2AE24-93DC-478A-834F-34D092C5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69709-939B-41F5-8732-8F786B02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2292F-B9F4-466B-A01D-C5B15D82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E354-1873-4193-9DB8-12F36B9A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28103-F73B-429F-8940-E0A4AC4D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36FAF-9A0A-4D18-825E-604E99E2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6E2D9-06D2-477A-A9A2-77E68DA3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F3D34-AF6B-4CFC-BAF6-D5DBEFA93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88912-B822-4C7E-BAEA-7F100C48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CE011-14AB-4F5C-9FB6-997A59736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070D3-3F18-47C0-9E65-B9E6CD73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62A56-0FC7-4E4B-9C6B-EA4BB5F1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FF86D-FB90-4FFF-A4C7-3500C86D4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9EB10-AA65-44FC-9923-70FE423F1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29F9-A127-4C68-87C3-9C1B00C5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DAC15-09C5-4FEE-B200-4E8B7103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740EB-A642-45E4-A00A-77BD5376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C4A2F-DD8F-4957-8841-9C600883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82E09-1F76-4C87-BF2A-57952860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D3EF3-4343-4B5B-960E-18A5622A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48E8D-E6E1-40D5-8DA3-7CEDDF0A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07557-A25D-47D0-8670-E24431D2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D3D7E-4F08-41C7-977B-2919E4E15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6C15E-3669-4DF1-8BC2-17685AE2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349EB-4E44-4496-85B6-5890166E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7B8-69E0-45F6-924B-236444A3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A450C-FB57-4221-A3A2-9AA463A0A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4C825-FFD6-45B1-800E-DBE1ACE7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8FB0B-EE32-49AD-98A4-6A8862D5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661161-CD10-4236-9F02-D42235DE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E592A-FC00-45D5-BB89-B9768DD7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DE012-9DC7-46F4-98F9-17493B1F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B9A93-9049-4B75-80FB-F175DBB11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F5152-99A8-4F08-B0D8-6CE5CE621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868CD-9CC7-4B40-BBB0-4F59C2DD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224E0-7102-4F1F-BA56-19280DA3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29D3-078A-463E-A46B-B17D0425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665C7-FE89-44FB-B4A6-5B73F155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259C2-BB9B-46D5-BD8C-66BFDDB9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7ACC4-B6B9-49FE-A278-F9A01214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0B2B1-5B16-47F6-B742-CAB04DEE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4967B-8529-42D2-A998-F2A21FD3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E4193-E596-4854-BA2A-E43F9C2A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C0456-D1ED-4E8E-97C1-D9FFF3AE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6A6C4-3FD5-4421-846B-5A8153D7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91A8E-7C48-4456-9197-CA6BFB42B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0DB49F-9C84-4737-BF07-DEEBACB9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CEE-B140-4E8B-9618-4639999E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5BABD-AF5E-40E2-ADD5-27EBFBA0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45CE8-5186-4674-9F85-2A45CA48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0AD6D-5DEB-48CC-9240-72C719E3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2462E-B252-437A-BBC9-CE18F60B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CF73D-EC98-4023-8CE4-31529B22A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1F2880-695E-4113-960C-83172C22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CECB7-0C7E-4C49-9E59-3257CC56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6250B8-764E-452C-96C1-9B48C131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BFF7B1-66EE-46FC-B416-212AE0EA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5338B-924E-4955-BB5F-644856B7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6DFF-0ECA-4DA2-9C81-2FF29C9C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2639D-26C5-4DB8-A442-CCE5DB9F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B9DC9-CEAD-44EE-9ABE-EE9D80FE4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F47B9-C239-423C-8EB4-76F1562B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01926-E140-4292-BBCB-52C779F3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287A2-1CFF-42C9-A646-EC436C4C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116DD-AFCC-4073-AF4C-54FFC1424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AA9C9-758C-4144-B1D4-3E05E32C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FCA7DD-27C9-4223-BB3F-FD145EEB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3D80B5-B1C7-4D80-8D6A-97F454BE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762228-7AD1-4B66-BFA8-7CB82F71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0D44A-9ADC-4811-99BE-FE85D15C4AB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547F-EF63-4129-A9FB-A8C74A54072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9637-E530-40CB-9E89-754DA7B61DC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AD9C-EE07-49E2-8BB6-DAAE3E78298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8259-9EF6-4724-B8EC-1E8CCFB27E3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617C-6CB9-4125-B6CA-91C1ABEABB5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B334-7A0F-4D2D-9425-5356EFF2E42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A758-0CDA-4C8C-941B-327C98CB18F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972C2-0477-44EE-8741-CB5422A2F11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CF2F-0F77-4F70-959F-D004FACC181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0657-A754-4AC1-B7AC-4B083848E888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C4BB-8C2E-4182-8065-9FBA53402E5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46b86"/>
                </a:solidFill>
                <a:latin typeface="Georgia"/>
              </a:rPr>
              <a:t>TWO SIDES TO THE SAME ARGUME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d16349"/>
                </a:solidFill>
                <a:latin typeface="Georgia"/>
              </a:rPr>
              <a:t>The Big Debate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Summary of An Inconvenient Trut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Global warming is caused by the greenhouse effect from man-made carbon dioxide in the atmospher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 evidence is found in ice-core samples, dating back 650,000 yea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It shows that when Carbon Dioxide levels increase, temperature increas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re is no disagreement between scientists, only in the popular press that Carbon Dioxide is linked to climate chang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If this theory was the only one available to you, what would you think causes global warming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he Great Global Warming Swindl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2" name="Content Placeholder 4" descr="images.jpg"/>
          <p:cNvPicPr/>
          <p:nvPr/>
        </p:nvPicPr>
        <p:blipFill>
          <a:blip r:embed="rId1"/>
          <a:stretch/>
        </p:blipFill>
        <p:spPr>
          <a:xfrm>
            <a:off x="642960" y="1571760"/>
            <a:ext cx="3286080" cy="459396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This theory states that: -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Global warming is caused by solar activity which deflects cosmic rays from earth and decreases cloud cover”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Clouds and Cosmic Ray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5" name="GGWS clouds &amp; cosmic rays cartoon.wmv" descr=""/>
          <p:cNvPicPr/>
          <p:nvPr/>
        </p:nvPicPr>
        <p:blipFill>
          <a:blip r:embed="rId1"/>
          <a:stretch/>
        </p:blipFill>
        <p:spPr>
          <a:xfrm>
            <a:off x="142920" y="1614600"/>
            <a:ext cx="88581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6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Sort the cards in front of you to explain global warming by solar activity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emperature vs Solar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39" name="GGWS Temp vs Solar Activity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restart="whenNotActive" nodeType="interactiveSeq" fill="hold">
                <p:stCondLst>
                  <p:cond evt="onClick">
                    <p:tgtEl>
                      <p:spTgt spid="639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39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6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Carbon Dioxide Lags Temperatu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1" name="GGWS CO2 lags temp.wmv" descr=""/>
          <p:cNvPicPr/>
          <p:nvPr/>
        </p:nvPicPr>
        <p:blipFill>
          <a:blip r:embed="rId1"/>
          <a:stretch/>
        </p:blipFill>
        <p:spPr>
          <a:xfrm>
            <a:off x="142920" y="1614600"/>
            <a:ext cx="8858160" cy="48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2" dur="1" fill="hold"/>
                                        <p:tgtEl>
                                          <p:spTgt spid="6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emperature vs CO2 and Solar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3" name="GGWS Temp vs CO2 and Solar Activity.wmv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88581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643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43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8" dur="1" fill="hold"/>
                                        <p:tgtEl>
                                          <p:spTgt spid="6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7b9899"/>
                </a:solidFill>
                <a:latin typeface="Georgia"/>
              </a:rPr>
              <a:t>Summary of the Great Global Warming Swindle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Global warming is caused by solar activity which deflects cosmic rays from earth and decreases cloud cover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When solar activity is high, temperature increase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 ice-core records show that Carbon Dioxide lags temperature by 800 year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There is a direct relationship between temperature change and solar activity, but no real relationship between carbon dioxide and temperature chang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If this theory was the only one available to you, what would you think causes global warming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Why are we doing this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Scientists do not always have the answers, and scientific data can be interpreted in a number of way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Global warming is a hotly debated topic, taking up many column inches every year in the popular press and in scientific journals, but there seems to be a disagreement about the facts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Georgia"/>
              </a:rPr>
              <a:t>We are going to look at two arguments made on the causes of global warming, and see if we can make our own minds up on what one to believe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Ongoing 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Throughout these video clips, make notes on the worksheet provided of anything you feel is relevant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3" name="Content Placeholder 4" descr="An-Inconvenient-Truth-HavenWorks-com-tv-blog.jpg"/>
          <p:cNvPicPr/>
          <p:nvPr/>
        </p:nvPicPr>
        <p:blipFill>
          <a:blip r:embed="rId1"/>
          <a:stretch/>
        </p:blipFill>
        <p:spPr>
          <a:xfrm>
            <a:off x="214200" y="1428840"/>
            <a:ext cx="4000680" cy="4681440"/>
          </a:xfrm>
          <a:prstGeom prst="rect">
            <a:avLst/>
          </a:prstGeom>
          <a:ln w="0">
            <a:noFill/>
          </a:ln>
        </p:spPr>
      </p:pic>
      <p:pic>
        <p:nvPicPr>
          <p:cNvPr id="614" name="Content Placeholder 5" descr="center_image.jpg"/>
          <p:cNvPicPr/>
          <p:nvPr/>
        </p:nvPicPr>
        <p:blipFill>
          <a:blip r:embed="rId2"/>
          <a:stretch/>
        </p:blipFill>
        <p:spPr>
          <a:xfrm>
            <a:off x="5105520" y="1428840"/>
            <a:ext cx="3824280" cy="4643280"/>
          </a:xfrm>
          <a:prstGeom prst="rect">
            <a:avLst/>
          </a:prstGeom>
          <a:ln w="0">
            <a:noFill/>
          </a:ln>
        </p:spPr>
      </p:pic>
      <p:pic>
        <p:nvPicPr>
          <p:cNvPr id="615" name="Rectangle 6" descr=""/>
          <p:cNvPicPr/>
          <p:nvPr/>
        </p:nvPicPr>
        <p:blipFill>
          <a:blip r:embed="rId3"/>
          <a:stretch/>
        </p:blipFill>
        <p:spPr>
          <a:xfrm>
            <a:off x="3773520" y="2895480"/>
            <a:ext cx="176832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An Inconvenient Truth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Content Placeholder 4" descr="enviro%20gore.jpg"/>
          <p:cNvPicPr/>
          <p:nvPr/>
        </p:nvPicPr>
        <p:blipFill>
          <a:blip r:embed="rId1"/>
          <a:stretch/>
        </p:blipFill>
        <p:spPr>
          <a:xfrm>
            <a:off x="608040" y="1517760"/>
            <a:ext cx="3425760" cy="438948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The theory put forward by the former vice president of the USA, Al Gore, states that:-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GB" sz="2500" spc="-1" strike="noStrike">
                <a:solidFill>
                  <a:srgbClr val="000000"/>
                </a:solidFill>
                <a:latin typeface="Georgia"/>
              </a:rPr>
              <a:t>Global warming is caused by the greenhouse effect from man-made carbon dioxide in the atmosphere”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he Greenhouse Effec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0" name="AIT Greenhouse effect and cartoon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6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Activity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eorgia"/>
              </a:rPr>
              <a:t>Sort the cards in front of you to explain the theory of man-made global warming.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Temperature vs Carbon Diox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4" name="AIT Temp vs CO2 from ice cores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restart="whenNotActive" nodeType="interactiveSeq" fill="hold">
                <p:stCondLst>
                  <p:cond evt="onClick">
                    <p:tgtEl>
                      <p:spTgt spid="624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24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2" dur="1" fill="hold"/>
                                        <p:tgtEl>
                                          <p:spTgt spid="6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7b9899"/>
                </a:solidFill>
                <a:latin typeface="Georgia"/>
              </a:rPr>
              <a:t>Disagreement Amongst Scientists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6" name="AIT disagreement amongst scientists.wmv" descr=""/>
          <p:cNvPicPr/>
          <p:nvPr/>
        </p:nvPicPr>
        <p:blipFill>
          <a:blip r:embed="rId1"/>
          <a:stretch/>
        </p:blipFill>
        <p:spPr>
          <a:xfrm>
            <a:off x="142920" y="1571760"/>
            <a:ext cx="885816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55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" dur="1" fill="hold"/>
                                        <p:tgtEl>
                                          <p:spTgt spid="6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9T09:13:42Z</dcterms:created>
  <dc:creator>Greenfaulds High</dc:creator>
  <dc:description/>
  <dc:language>en-US</dc:language>
  <cp:lastModifiedBy>Stephen Day</cp:lastModifiedBy>
  <dcterms:modified xsi:type="dcterms:W3CDTF">2009-08-25T08:00:22Z</dcterms:modified>
  <cp:revision>8</cp:revision>
  <dc:subject/>
  <dc:title>The Big Debate</dc:title>
</cp:coreProperties>
</file>